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22264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4952880"/>
            <a:ext cx="10464840" cy="1244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 fontScale="26000"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1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5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6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68040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111168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542960" indent="-42192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97388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240516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2405160" indent="-421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2405160" indent="-421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523880" y="2730240"/>
            <a:ext cx="504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55404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905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256760" indent="-34380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607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95876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026560" y="2730240"/>
            <a:ext cx="396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7700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77940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081440" indent="-29592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38384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68588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685880" indent="-295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685880" indent="-295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1"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5">
              <a:spcBef>
                <a:spcPts val="901"/>
              </a:spcBef>
              <a:buClr>
                <a:srgbClr val="2f2b2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6">
              <a:spcBef>
                <a:spcPts val="901"/>
              </a:spcBef>
              <a:buClr>
                <a:srgbClr val="2f2b2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6527520"/>
            <a:ext cx="10464840" cy="2222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66708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1" marL="107640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2" marL="1485360" indent="-42228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3" marL="189396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4" marL="230292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5" marL="2302920" indent="-421920">
              <a:spcBef>
                <a:spcPts val="3399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6" marL="2302920" indent="-421920">
              <a:spcBef>
                <a:spcPts val="3399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15235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66708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1" marL="107640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2" marL="1485360" indent="-42228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3" marL="189396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4" marL="230292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5" marL="2302920" indent="-421920">
              <a:spcBef>
                <a:spcPts val="5000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6" marL="2302920" indent="-421920">
              <a:spcBef>
                <a:spcPts val="5000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 fontScale="80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1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5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6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523880" y="2730240"/>
            <a:ext cx="504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55404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905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256760" indent="-34380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607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95876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3800" y="-825480"/>
            <a:ext cx="12534840" cy="4317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300" spc="-1" strike="noStrike">
                <a:solidFill>
                  <a:srgbClr val="2f2b20"/>
                </a:solidFill>
                <a:latin typeface="American Typewriter"/>
              </a:rPr>
              <a:t>AP Literature Literary Elements</a:t>
            </a:r>
            <a:endParaRPr b="0" lang="en-US" sz="10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35040" y="4952520"/>
            <a:ext cx="11912400" cy="3009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f2b20"/>
                </a:solidFill>
                <a:latin typeface="American Typewriter"/>
              </a:rPr>
              <a:t>SCROLL THROUGH THE FLASHCARDS TO REVIEW LITERARY ELEMENTS, DEFINITIONS AND WHY AUTHORS MAY USE THEM.</a:t>
            </a:r>
            <a:endParaRPr b="0" lang="en-US" sz="47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FIGURATIVE LANGUAG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74" name=""/>
          <p:cNvSpPr/>
          <p:nvPr/>
        </p:nvSpPr>
        <p:spPr>
          <a:xfrm>
            <a:off x="177840" y="3606840"/>
            <a:ext cx="1263636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SYNECDOCHE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7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USING PART TO STAND FOR THE WHOLE IN ORDER TO EMPHASIZE THE CHARACTERISTIC OF THE PART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77" name=""/>
          <p:cNvSpPr/>
          <p:nvPr/>
        </p:nvSpPr>
        <p:spPr>
          <a:xfrm>
            <a:off x="393840" y="4540320"/>
            <a:ext cx="12229920" cy="49910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WHITE HAIR STANDING FOR ELDERLY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FOCUSES ATTENTION ON THE PHYSICAL MANIFESTATION OF AGING PERHAPS BECAUSE IT IS THE MOST UNDERSTOOD OR THE MOST FEARED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FIGURATIVE LANGUAG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79" name=""/>
          <p:cNvSpPr/>
          <p:nvPr/>
        </p:nvSpPr>
        <p:spPr>
          <a:xfrm>
            <a:off x="1270080" y="361944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IMAGERY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8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USE OF DESCRIPTIVE LANGUAGE TO CREATE IMAGES WITHIN THE MIND USUALLY TO CONSTRUCT MOOD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4686480"/>
            <a:ext cx="12230280" cy="4216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THE OPENING PARAGRAPHS IN THE CHAPTER WHEN FRANKENSTEIN’S MONSTER COMES TO LIFE</a:t>
            </a:r>
            <a:endParaRPr b="0" lang="en-US" sz="47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SHELLEY RELIES ON IMAGERY TO CREATE A FOREBODING MOOD</a:t>
            </a:r>
            <a:endParaRPr b="0" lang="en-US" sz="47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FIGURATIVE LANGUAG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84" name=""/>
          <p:cNvSpPr/>
          <p:nvPr/>
        </p:nvSpPr>
        <p:spPr>
          <a:xfrm>
            <a:off x="355680" y="3619440"/>
            <a:ext cx="122936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2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PERSONIFICATION</a:t>
            </a:r>
            <a:endParaRPr b="0" lang="en-US" sz="102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8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4880" y="-10666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ATTRIBUTING HUMAN CHARACTERISTICS TO NON-LIVING OBJECTS USUALLY TO CONSTRUCT MOOD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3949560"/>
            <a:ext cx="12230280" cy="5689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THE LAME UNCERTAIN CURVES...SUDDENLY COMMIT SUICIDE - </a:t>
            </a:r>
            <a:r>
              <a:rPr b="0" lang="en-US" sz="48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THE YELLOW WALLPAPER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BY PERSONIFYING THE WALLPAPER, GILMAN CONSTRUCTS AN EERIE MOOD AND FURTHER CHARACTERIZES THE SPEAKER’S STATE OF MIND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FIGURATIVE LANGUAG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89" name=""/>
          <p:cNvSpPr/>
          <p:nvPr/>
        </p:nvSpPr>
        <p:spPr>
          <a:xfrm>
            <a:off x="1270080" y="361944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SYMBOL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9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USING AN OBJECT TO REPRESENT A COMPLEX CONCEPT OR EMOTION IN ORDER TO CLARIFY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92" name=""/>
          <p:cNvSpPr/>
          <p:nvPr/>
        </p:nvSpPr>
        <p:spPr>
          <a:xfrm>
            <a:off x="380880" y="4648320"/>
            <a:ext cx="12230280" cy="4292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THE PAPERWEIGHT - </a:t>
            </a:r>
            <a:r>
              <a:rPr b="0" lang="en-US" sz="48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1984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REPRESENTED WINSTON’S CONCEPT OF UTOPIA, A WORLD PROTECTED FROM INTRUSION FROM OPPRESSIVE FORCES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FIGURATIVE LANGUAG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94" name=""/>
          <p:cNvSpPr/>
          <p:nvPr/>
        </p:nvSpPr>
        <p:spPr>
          <a:xfrm>
            <a:off x="1270080" y="361944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ALLUSION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9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4880" y="-109224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REFERRING TO SOMETHING WITHOUT DIRECTLY NAMING IT OFTEN TO CONSTRUCT SETTING OR TONE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4102200"/>
            <a:ext cx="12230280" cy="4724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MAYCOMB HAD RECENTLY BEEN TOLD IT HAD NOTHING TO FEAR BUT FEAR ITSELF - </a:t>
            </a:r>
            <a:r>
              <a:rPr b="0" lang="en-US" sz="45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TO KILL A MOCKINGBIRD</a:t>
            </a:r>
            <a:endParaRPr b="0" lang="en-US" sz="45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REVEALS THE HISTORICAL CONTEXT OF THE NOVEL BY INDIRECTLY REFERENCING A PRESIDENTIAL SPEECH</a:t>
            </a:r>
            <a:endParaRPr b="0" lang="en-US" sz="45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FIGURATIVE LANGUAG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54" name=""/>
          <p:cNvSpPr/>
          <p:nvPr/>
        </p:nvSpPr>
        <p:spPr>
          <a:xfrm>
            <a:off x="1270080" y="361944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METAPHOR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5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FIGURATIVE LANGUAG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99" name=""/>
          <p:cNvSpPr/>
          <p:nvPr/>
        </p:nvSpPr>
        <p:spPr>
          <a:xfrm>
            <a:off x="698400" y="3645000"/>
            <a:ext cx="1159524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APOSTROPHE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0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-1015920"/>
            <a:ext cx="127000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ADDRESSING AN OBJECT OR A ABSENT PERSON AS THOUGH PRESENT; THIS CAN BE USED FOR MYRIAD REASONS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02" name=""/>
          <p:cNvSpPr/>
          <p:nvPr/>
        </p:nvSpPr>
        <p:spPr>
          <a:xfrm>
            <a:off x="380880" y="3949560"/>
            <a:ext cx="12230280" cy="5689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VICTOR FRANKENSTEIN’S FREQUENT ADDRESSES TO CLERVAL WHEN TELLING HIS TALE TO WALTON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SOMETIMES SERVES TO FORESHADOW EVENTS IN THE PLOT AS WELL AS TO DEVELOP VICTOR’S RELATIONSHIP WITH CLERVAL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STYL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04" name=""/>
          <p:cNvSpPr/>
          <p:nvPr/>
        </p:nvSpPr>
        <p:spPr>
          <a:xfrm>
            <a:off x="355680" y="3619440"/>
            <a:ext cx="1247148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IRONY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0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CONTRAST BETWEEN APPEARANCE AND REALITY OFTEN TO CREATE TONE.  FORMS: VERBAL, DRAMATIC, SITUATIONAL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07" name=""/>
          <p:cNvSpPr/>
          <p:nvPr/>
        </p:nvSpPr>
        <p:spPr>
          <a:xfrm>
            <a:off x="393840" y="4902120"/>
            <a:ext cx="12229920" cy="4216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ALAS THERE LIES MORE PERIL IN THINE EYE THAN TWENTY THOUSAND OF THEIR SWORDS - </a:t>
            </a:r>
            <a:r>
              <a:rPr b="0" lang="en-US" sz="46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ROMEO AND JULIET</a:t>
            </a:r>
            <a:endParaRPr b="0" lang="en-US" sz="46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REVEALS SHAKESPEARE’S TONE TOWARD OBSTACLES IN LOVE</a:t>
            </a:r>
            <a:endParaRPr b="0" lang="en-US" sz="46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STYL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09" name=""/>
          <p:cNvSpPr/>
          <p:nvPr/>
        </p:nvSpPr>
        <p:spPr>
          <a:xfrm>
            <a:off x="355680" y="3619440"/>
            <a:ext cx="1247148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CONNOTATION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1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IMPLIED FEELING OF A WORD, OFTEN BASED ON SOUND, USED IN ORDER TO CREATE TONE OR MOOD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4648320"/>
            <a:ext cx="12230280" cy="4292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GALUMPHING - “JABBERWOCKY”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CARROLL’S USE OF PORTMANTEAU WORDS MIXED THE SOUNDS AND CREATED MOOD FOR A FANTASTICAL WORLD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STYL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14" name=""/>
          <p:cNvSpPr/>
          <p:nvPr/>
        </p:nvSpPr>
        <p:spPr>
          <a:xfrm>
            <a:off x="355680" y="3619440"/>
            <a:ext cx="1247148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PARADOX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1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A SEEMINGLY SELF-CONTRADICTORY STATEMENT THAT HOLDS AN ELEMENT OF TRUTH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17" name=""/>
          <p:cNvSpPr/>
          <p:nvPr/>
        </p:nvSpPr>
        <p:spPr>
          <a:xfrm>
            <a:off x="380880" y="5695920"/>
            <a:ext cx="12230280" cy="219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IGNORANCE IS TRUTH - </a:t>
            </a:r>
            <a:r>
              <a:rPr b="0" lang="en-US" sz="48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1984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STYL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19" name=""/>
          <p:cNvSpPr/>
          <p:nvPr/>
        </p:nvSpPr>
        <p:spPr>
          <a:xfrm>
            <a:off x="355680" y="3619440"/>
            <a:ext cx="1247148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DIALECT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2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FORM OF LANGUAGE SPECIFIC TO A REGION, OFTEN USED IN LITERATURE TO DEVELOP CONTEXT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4997520"/>
            <a:ext cx="12230280" cy="3593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THE DIALOGUE - </a:t>
            </a:r>
            <a:r>
              <a:rPr b="0" lang="en-US" sz="48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THEIR EYES WERE WATCHING GOD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DEVELOPS THE CULTURAL CONTEXT OF THE NOVEL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COMPARING TWO UNLIKE THINGS IN ORDER TO EMPHASIZE THE SIMILARITY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648320"/>
            <a:ext cx="12230280" cy="4292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MISS EMILY GRIERSON WAS A FALLEN MONUMENT TO THE TOWN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CHARACTERIZES HOW THE TOWN ISOLATED EMILY AS WELL AS CONNOTES THEIR JUDGMENT OF HER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FICTION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24" name=""/>
          <p:cNvSpPr/>
          <p:nvPr/>
        </p:nvSpPr>
        <p:spPr>
          <a:xfrm>
            <a:off x="355680" y="3619440"/>
            <a:ext cx="1247148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FLASHBACK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2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TELLING OF A STORY AS THOUGH LOOKING BACK, OFTEN USED TO IMPLY A MORAL OR LESSON LEARNED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4997520"/>
            <a:ext cx="12230280" cy="3593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</a:t>
            </a:r>
            <a:r>
              <a:rPr b="0" lang="en-US" sz="48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FRANKENSTEIN</a:t>
            </a: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, </a:t>
            </a:r>
            <a:r>
              <a:rPr b="0" lang="en-US" sz="48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THEIR EYES WERE WATCHING GOD</a:t>
            </a: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, </a:t>
            </a:r>
            <a:r>
              <a:rPr b="0" lang="en-US" sz="48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TO KILL A MOCKINGBIRD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FICTION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29" name=""/>
          <p:cNvSpPr/>
          <p:nvPr/>
        </p:nvSpPr>
        <p:spPr>
          <a:xfrm>
            <a:off x="355680" y="3619440"/>
            <a:ext cx="1247148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ANECDOTE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3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USE OF A SHORT (BRIEF) STORY TO ELABORATE OR EXPLAIN FURTHER OR TO SHIFT MOODS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4648320"/>
            <a:ext cx="12230280" cy="4292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MISSES TUTTI AND FRUTTI - </a:t>
            </a:r>
            <a:r>
              <a:rPr b="0" lang="en-US" sz="48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TO KILL A MOCKINGBIRD 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PROVIDES COMIC RELIEF JUST BEFORE THE SCENE WHEN THE CHILDREN ARE ATTACKED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FICTION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34" name=""/>
          <p:cNvSpPr/>
          <p:nvPr/>
        </p:nvSpPr>
        <p:spPr>
          <a:xfrm>
            <a:off x="355680" y="3619440"/>
            <a:ext cx="1247148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POINT OF VIEW</a:t>
            </a:r>
            <a:endParaRPr b="0" lang="en-US" sz="125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3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LENS THROUGH WHICH A STORY IS TOLD</a:t>
            </a:r>
            <a:br>
              <a:rPr sz="6300"/>
            </a:b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STYLES: 1ST AND 3RD PERSON, LIMITED AND OMNISCIENT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5695920"/>
            <a:ext cx="12230280" cy="219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E POINT OF VIEW IS CHOSEN AS A MEANS OF DEVELOPING THEME AND TONE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58640" y="304560"/>
            <a:ext cx="1046484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POETRY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39" name=""/>
          <p:cNvSpPr/>
          <p:nvPr/>
        </p:nvSpPr>
        <p:spPr>
          <a:xfrm>
            <a:off x="355680" y="4457880"/>
            <a:ext cx="1247148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STRUCTURE/ FORM</a:t>
            </a:r>
            <a:endParaRPr b="0" lang="en-US" sz="125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4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4880" y="-27936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FORM OF VERSE THAT DICTATES THE PROSODY, OFTEN USED TO CONSTRUCT MOOD AND TONE</a:t>
            </a:r>
            <a:br>
              <a:rPr sz="6300"/>
            </a:b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42" name=""/>
          <p:cNvSpPr/>
          <p:nvPr/>
        </p:nvSpPr>
        <p:spPr>
          <a:xfrm>
            <a:off x="380880" y="5410080"/>
            <a:ext cx="12230280" cy="2895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FREE VERSE (“SUICIDE NOTE”), SONNET (“OZYMANDIAS”), QUATRAIN, SESTET, COUPLET, REFRAIN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58640" y="304560"/>
            <a:ext cx="1046484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POETRY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44" name=""/>
          <p:cNvSpPr/>
          <p:nvPr/>
        </p:nvSpPr>
        <p:spPr>
          <a:xfrm>
            <a:off x="355680" y="4457880"/>
            <a:ext cx="1247148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CONTROLLING IMAGE</a:t>
            </a:r>
            <a:endParaRPr b="0" lang="en-US" sz="125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4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AN EXTENDED IMAGE USED TO CREATE STRUCTURE AND MOOD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4857840"/>
            <a:ext cx="12230280" cy="3593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A BIRD IN WINTER - “SUICIDE NOTE”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DEVELOPS THE BARREN AND DESOLATE MOOD OF THE POEM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FIGURATIVE LANGUAG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59" name=""/>
          <p:cNvSpPr/>
          <p:nvPr/>
        </p:nvSpPr>
        <p:spPr>
          <a:xfrm>
            <a:off x="1270080" y="361944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CONCEIT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6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58640" y="304560"/>
            <a:ext cx="1046484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POETRY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49" name=""/>
          <p:cNvSpPr/>
          <p:nvPr/>
        </p:nvSpPr>
        <p:spPr>
          <a:xfrm>
            <a:off x="355680" y="4457880"/>
            <a:ext cx="1247148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REPETITION </a:t>
            </a:r>
            <a:endParaRPr b="0" lang="en-US" sz="125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5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REPEATING OF WORDS OR SOUNDS IN ORDER TO CREATE STRUCTURE, MOOD, TONE, AND THEME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52" name=""/>
          <p:cNvSpPr/>
          <p:nvPr/>
        </p:nvSpPr>
        <p:spPr>
          <a:xfrm>
            <a:off x="380880" y="6045120"/>
            <a:ext cx="12230280" cy="1498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ASSONANCE, CONSONANCE, ALLITERATION (SOUNDS)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58640" y="304560"/>
            <a:ext cx="1046484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POETRY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54" name=""/>
          <p:cNvSpPr/>
          <p:nvPr/>
        </p:nvSpPr>
        <p:spPr>
          <a:xfrm>
            <a:off x="355680" y="4457880"/>
            <a:ext cx="1247148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SOUND</a:t>
            </a:r>
            <a:endParaRPr b="0" lang="en-US" sz="125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5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USE OF THE SOUNDS OF WORDS TO CREATE MOOD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57" name=""/>
          <p:cNvSpPr/>
          <p:nvPr/>
        </p:nvSpPr>
        <p:spPr>
          <a:xfrm>
            <a:off x="380880" y="6045120"/>
            <a:ext cx="12230280" cy="1498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CACOPHONY, EUPHONY, DISSONANCE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58640" y="304560"/>
            <a:ext cx="1046484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ELEMENTS OF POETRY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59" name=""/>
          <p:cNvSpPr/>
          <p:nvPr/>
        </p:nvSpPr>
        <p:spPr>
          <a:xfrm>
            <a:off x="355680" y="4457880"/>
            <a:ext cx="1247148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METER</a:t>
            </a:r>
            <a:endParaRPr b="0" lang="en-US" sz="125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56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RHYTHM OF VERSE, DETERMINED BY THE NUMBER OF SYLLABLES PER LINE, OFTEN USED TO CREATE MOOD AND TONE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562" name=""/>
          <p:cNvSpPr/>
          <p:nvPr/>
        </p:nvSpPr>
        <p:spPr>
          <a:xfrm>
            <a:off x="380880" y="6045120"/>
            <a:ext cx="12230280" cy="1498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IAMBIC PENTAMETER, FOOT, CADENCE, CAESURA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4880" y="-1522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2b20"/>
                </a:solidFill>
                <a:latin typeface="American Typewriter"/>
              </a:rPr>
              <a:t>AN EXTENDED METAPHOR WOVEN THROUGHOUT A PARAGRAPH OR PIECE OF LITERATURE AS A MEANS OF STRUCTURING THE PIECE OR CONSTRUCTING MOOD, TONE OR THEME</a:t>
            </a:r>
            <a:endParaRPr b="0" lang="en-US" sz="5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62" name=""/>
          <p:cNvSpPr/>
          <p:nvPr/>
        </p:nvSpPr>
        <p:spPr>
          <a:xfrm>
            <a:off x="393840" y="5753160"/>
            <a:ext cx="12229920" cy="3530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THE PEAR TREE - </a:t>
            </a:r>
            <a:r>
              <a:rPr b="0" lang="en-US" sz="4700" spc="-1" strike="noStrike" u="sng">
                <a:solidFill>
                  <a:srgbClr val="2f2b20"/>
                </a:solidFill>
                <a:uFillTx/>
                <a:latin typeface="American Typewriter"/>
                <a:ea typeface="American Typewriter"/>
              </a:rPr>
              <a:t>THEIR EYES WERE WATCHING GOD</a:t>
            </a:r>
            <a:endParaRPr b="0" lang="en-US" sz="47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CONSTRUCTED HURSTON’S TONE TOWARD THE NATURE OF LOVE</a:t>
            </a:r>
            <a:endParaRPr b="0" lang="en-US" sz="47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FIGURATIVE LANGUAG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64" name=""/>
          <p:cNvSpPr/>
          <p:nvPr/>
        </p:nvSpPr>
        <p:spPr>
          <a:xfrm>
            <a:off x="291960" y="3670200"/>
            <a:ext cx="1242072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SYNESTHESIA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65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2f2b20"/>
                </a:solidFill>
                <a:latin typeface="American Typewriter"/>
              </a:rPr>
              <a:t>THE MIXING OF SENSES USED AS A MEANS TO CONSTRUCT MOOD OR CHARACTERIZATION</a:t>
            </a:r>
            <a:endParaRPr b="0" lang="en-US" sz="63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67" name=""/>
          <p:cNvSpPr/>
          <p:nvPr/>
        </p:nvSpPr>
        <p:spPr>
          <a:xfrm>
            <a:off x="380880" y="4648320"/>
            <a:ext cx="12230280" cy="4292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A SNEER OF COLD COMMAND - “OZYMANDIAS”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IS CONSTRUCTS THE MOOD OF THE LEADER’S REIGN AND CONSEQUENTLY CHARACTERIZES HIM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f2b20"/>
                </a:solidFill>
                <a:latin typeface="American Typewriter"/>
              </a:rPr>
              <a:t>FIGURATIVE LANGUAGE</a:t>
            </a:r>
            <a:endParaRPr b="0" lang="en-US" sz="86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69" name=""/>
          <p:cNvSpPr/>
          <p:nvPr/>
        </p:nvSpPr>
        <p:spPr>
          <a:xfrm>
            <a:off x="1270080" y="3619440"/>
            <a:ext cx="10464840" cy="3810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METONYMY</a:t>
            </a:r>
            <a:endParaRPr b="0" lang="en-US" sz="131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70" name=""/>
          <p:cNvSpPr/>
          <p:nvPr/>
        </p:nvSpPr>
        <p:spPr>
          <a:xfrm>
            <a:off x="5549760" y="4051440"/>
            <a:ext cx="1905120" cy="0"/>
          </a:xfrm>
          <a:prstGeom prst="line">
            <a:avLst/>
          </a:prstGeom>
          <a:ln w="88920">
            <a:solidFill>
              <a:srgbClr val="0505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64880" y="-609480"/>
            <a:ext cx="1269972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f2b20"/>
                </a:solidFill>
                <a:latin typeface="American Typewriter"/>
              </a:rPr>
              <a:t>THE SUBSTITUTION OF THE NAME OF AN ATTRIBUTE FOR THE OBJECT OR CONCEPT WITH WHICH IT IS ASSOCIATED IN ORDER TO EMPHASIZE THE SIMILARITY</a:t>
            </a:r>
            <a:endParaRPr b="0" lang="en-US" sz="62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72" name=""/>
          <p:cNvSpPr/>
          <p:nvPr/>
        </p:nvSpPr>
        <p:spPr>
          <a:xfrm>
            <a:off x="380880" y="5479920"/>
            <a:ext cx="12230280" cy="3594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EX: THE HAND THAT MOCKED THEM - OZYMANDIAS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HE HAND REPRESENTS THE RULE OF OZYMANDIAS </a:t>
            </a:r>
            <a:endParaRPr b="0" lang="en-US" sz="48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